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1220-FC40-4676-BF6F-990183CD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E9C5-8FF3-48A5-B7F6-9C2405B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E7DD-F16F-4D88-BFD7-301CF518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9D3B-D089-4602-B823-401CBEDC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D97A-7C3A-40A9-BC04-59BF0950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5A1-E4E2-4F00-A839-87C27AC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751-99F8-4411-8A14-A27909C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6825-312C-4226-90E1-F6921569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6E0-0A1A-47FD-9456-03F94BD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9E9-667B-4F14-9F70-3DAF8FE6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12CC-37E0-4444-A21D-71D7DAC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CCC6-F6A6-452D-80F2-90A2CD3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FE0-01EF-47FB-809A-C4896A3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46FD-9934-48AB-B817-8ED89AE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D0BB-982C-4F7C-AD92-6461A14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053B-6544-46BA-AEB3-C7771596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112D-D52B-4ECA-B25B-5C9295CC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C6CDE-C30B-4083-BEC9-B7D7FDF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341B-E1EA-4017-B503-6C7B5D9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E785-A930-4CF9-B268-12EAC56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CE74-8ADC-4039-83F1-DECA3AE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E57E-D73A-4CE7-91E8-BCC5C68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0DB5-059A-42D6-9BA3-62A1363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3938-D91D-46DF-9A49-A7CD615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B323-6FCF-4B40-9266-D9A85F691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F5B4-B071-414A-A515-D9277A8C0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 vagy szerelme életemne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át és társ vagy, aki szeret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árom, hogy érints, lelkem kívá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ljes szívemből szeretlek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j most magadhoz még jobban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gy fel a karjaidba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íved dobbanását hadd hallja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Ó, Jézus! Ó, Jézus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8675640" y="189000"/>
            <a:ext cx="289080" cy="2667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yügyei Tamás</cp:lastModifiedBy>
  <dcterms:modified xsi:type="dcterms:W3CDTF">2005-02-04T22:04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